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D54-0C98-4F90-A97F-9A74D22E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928-72EF-450E-BB8B-B1381B75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E1F-43AA-49DA-9D99-9B527C85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269-ADDE-4028-8E6A-56103D2F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533A-4DF5-45B1-8AE7-A0616EFE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5A4E-FCB4-47E9-9192-F4C6E787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4FFB-8215-4F84-9DC6-9B5D7802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1160-9FE5-4FED-82C6-EA218782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2A22-AA00-497C-918C-582BC600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4C2A-2050-4038-94F4-059618D6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B93E-518F-435C-B02A-1395353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F63-986C-4EC7-82C5-BA251680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8976-86B6-467B-BE14-9024E3C4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C34F-7374-4FDB-A1E5-09A429E3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CA93-E299-483B-98C6-99A81323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E42E-D6F0-4CE3-A8C9-A0906951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77B4-B456-473E-BBBC-E4FBAA53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109-3F3B-48E3-8B84-9A8ECBDD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984-92D9-41D9-86D2-8EF7B47C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76E-FE6B-438E-8CA2-C80EAA72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AE4-D6BC-4E0B-AA5D-DB835D20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047-7AA3-4DB3-9D74-78A999F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D95-A9F2-423A-91B8-90C370E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73D-A0CE-4F22-89CE-E9D3B7A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0595-477D-4A5F-967E-5A6AE4A4F3D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34D7-C81C-40E7-B279-C53593EF19C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nry &amp; Mudge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       and the Starry Night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hiver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person who goes into sp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vehicle that carries astronauts into sp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hook with f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hiver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.  Shook with f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rooled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test to find out some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et saliva run from the mou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ehicle that carries astronauts into sp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rooled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.  Let saliva run from the mou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anter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atural force that makes everything on Earth move toward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st to find out some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ghts inside containers that can be carri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anter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.  Lights inside containers that can be carri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nuggl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ddled toge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atural force that makes everything on Earth move toward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person who goes into sp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nuggl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.  Cuddled toge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23:21:01Z</dcterms:created>
  <dc:creator>Romona Hunt</dc:creator>
  <dc:description/>
  <dc:language>en-US</dc:language>
  <cp:lastModifiedBy>Romona Hunt</cp:lastModifiedBy>
  <dcterms:modified xsi:type="dcterms:W3CDTF">2007-09-02T23:51:05Z</dcterms:modified>
  <cp:revision>5</cp:revision>
  <dc:subject/>
  <dc:title>Exploring Space</dc:title>
</cp:coreProperties>
</file>